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9A892-6B6C-4499-92FD-B02F404027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3D7E0-1647-409F-8638-3DA4782AFD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17110-43F1-4185-BCF3-EC3DDC7229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9317F-A347-47B4-99F4-42A355EE77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196B7-FDDA-4858-92D0-D968511B13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94AA8-9D1C-45BC-873C-82742A9C17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60137-FF11-453C-BD5F-FDD5D52423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A4F1A-C7F7-407A-8FB8-9E45AB8108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A4A07-09DE-4C9D-B1C8-5819E9EF22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A0E88-464D-4E6A-8F1E-EB674DEFBF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AC1-2808-41AA-94FD-C3439C68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2A0-FADE-4C17-93B3-B8BA84D8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E90-7045-463F-A69C-99C0D10B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4FE-7091-4303-9202-592D4631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5E7-873E-4945-AAD4-E8C49DC2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036-5F2C-4F45-9CB6-6B758C15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48B-35B5-4785-A037-F2E12CD0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6CD-9147-4ED2-B950-E826E0EE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8AC-B888-46CC-A7B4-3EDA16CB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BA8-14B7-4357-AB44-63541597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7D8-E0A9-49FD-B2E3-28508EED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228-A9F3-436D-9B6F-1E6FE402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E444D-A344-4FDF-9B09-55083D2A2D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3336120" y="1643040"/>
            <a:ext cx="337968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27120" y="6154560"/>
            <a:ext cx="77374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2494440" y="731880"/>
            <a:ext cx="503604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p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k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all created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all the ways of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wer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efore the world be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2210040" y="808200"/>
            <a:ext cx="563364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kingd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thr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wo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world has ever 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treasures of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's no way to 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You're w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116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2495520" y="538200"/>
            <a:ext cx="512748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ru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id behind a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lived to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jected and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ike a 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mpled on the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took the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thought of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494440" y="731880"/>
            <a:ext cx="503604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p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k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all created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all the ways of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wer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efore the world be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2210040" y="808200"/>
            <a:ext cx="563364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kingd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thr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wo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world has ever 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treasures of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's no way to 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You're w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116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2495520" y="538200"/>
            <a:ext cx="512748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ru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id behind a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lived to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jected and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ike a 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mpled on the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took the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thought of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116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495520" y="538200"/>
            <a:ext cx="512748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ru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id behind a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lived to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jected and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ike a 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mpled on the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took the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thought of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116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2495520" y="538200"/>
            <a:ext cx="5127480" cy="35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ike a 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mpled on the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took the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thought of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Wade, Peter</cp:lastModifiedBy>
  <dcterms:modified xsi:type="dcterms:W3CDTF">2015-09-30T00:38:59Z</dcterms:modified>
  <cp:revision>4</cp:revision>
  <dc:subject/>
  <dc:title>Slide 1</dc:title>
</cp:coreProperties>
</file>